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558C-F3B4-432D-AE50-A17EAC35A28E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FDD1-FDF5-4789-8919-DEE9A9A069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1753-31B0-41AE-A5F7-1569660ADA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9FBC-79BD-4727-9532-40A244F63CB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help you successfully complete all the lab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E5CB-96A7-4663-B26F-E0FF716CA5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55AD-4C82-4EC0-B147-C4DAF27C898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cture will focus on design space and tradeoffs in those three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lab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get hands on experienc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touch upon the implementation details of digit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DF67-62A3-4688-9B19-462CC3E51C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753F-D441-4183-BEC4-CD05CAAC2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E3CF7-7B3D-41F8-834E-09F28301B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3EF7-FB9F-491A-A2B9-D612E4852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59B1-5AE0-4687-B3C1-0C4CF30CE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452D4-58E7-4F48-A352-8A2E06D3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26136-A555-4A92-AA85-C26C79B4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49C06-14ED-43A2-A61F-DB5AAB8E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E7128-08B7-4CD8-BDA6-0E6A9F09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E78FC-D71D-4A66-859A-55240FB5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8B077-2512-480B-862A-A8CEE69D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BD9A3-3B23-41DE-BAB0-C3D8D36E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6F5E-51FC-48C0-8E13-8ABB3DA31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EB30D-3EBB-4A64-B5BF-BF91914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DA19E-622A-4D2A-9096-2F3BC979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E0C50-31CC-412C-B775-FDEEDB25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5D0C9-DEAA-465B-8CF1-E8781C37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6534C-E805-4952-8A34-30B11B91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669C-437A-4EF6-A410-20DCE92FB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A878-B5F7-4F2A-ABB7-7999D3500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9E980-6423-4E01-AA04-A02DDA3C8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688C-45D4-4E8A-B32E-318D892B7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196F-04F3-4C30-899E-B5C383158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DE71-5E74-4070-A750-638C0875E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F49A-BE08-481F-81AC-3C4D4D354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D05A-9FD4-4EFC-A6FD-4BD07C111520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B9A2-5EFF-4170-BA90-65C61666CDE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20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5742a"/>
                </a:solidFill>
                <a:latin typeface="Cambria"/>
              </a:rPr>
              <a:t>Design of Digital Circuits</a:t>
            </a:r>
            <a:br>
              <a:rPr sz="6600"/>
            </a:br>
            <a:r>
              <a:rPr b="1" lang="en-US" sz="4400" spc="-1" strike="noStrike">
                <a:solidFill>
                  <a:srgbClr val="35742a"/>
                </a:solidFill>
                <a:latin typeface="Garamond"/>
              </a:rPr>
              <a:t>Lecture 3: </a:t>
            </a: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the Labs and FPGA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47640" y="3424320"/>
            <a:ext cx="784872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ecture by Hasan Hass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8 February 20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A7E0-AA3E-4D91-A8B6-4E7F247DD58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1: Drawing a Basic Circui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mpari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common operation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usually want to know the </a:t>
            </a: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rel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variables (e.g.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compare two 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electrical sign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nputs), and find whether they ar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 (output) is also an </a:t>
            </a:r>
            <a:r>
              <a:rPr b="0" i="1" lang="en-US" sz="2200" spc="-1" strike="noStrike">
                <a:solidFill>
                  <a:srgbClr val="0000ff"/>
                </a:solidFill>
                <a:latin typeface="Tahoma"/>
              </a:rPr>
              <a:t>electrical sign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PGA programming invol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We encourage you to 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01CC-FCC9-4CA6-A11D-96BCD2F401D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2: Mapping Your Circuit to FPG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other common operation in software programm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a circuit that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d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wo </a:t>
            </a:r>
            <a:r>
              <a:rPr b="0" lang="en-US" sz="2800" spc="-1" strike="noStrike">
                <a:solidFill>
                  <a:srgbClr val="997300"/>
                </a:solidFill>
                <a:latin typeface="Tahoma"/>
              </a:rPr>
              <a:t>1-b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Tahoma"/>
              </a:rPr>
              <a:t>Re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800" spc="-1" strike="noStrike">
                <a:solidFill>
                  <a:srgbClr val="997300"/>
                </a:solidFill>
                <a:latin typeface="Tahoma"/>
              </a:rPr>
              <a:t>1-bit add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times to perform </a:t>
            </a:r>
            <a:r>
              <a:rPr b="0" lang="en-US" sz="2800" spc="-1" strike="noStrike">
                <a:solidFill>
                  <a:srgbClr val="997300"/>
                </a:solidFill>
                <a:latin typeface="Tahoma"/>
              </a:rPr>
              <a:t>4-bit ad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 the design on the FPGA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9514-8809-4655-81DF-8D095DDFFDB0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3: Verilog for Combinatorial Circui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your results from Lab 2 on a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even Segment Disp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620B-B503-4BCF-8246-892E0F63796A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033560" y="1531800"/>
            <a:ext cx="7000920" cy="41245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1955880" y="556884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s://reference.digilentinc.com/reference/programmable-logic/basys-3/reference-m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4: Finite State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inking LEDs for a car’s turn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and use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memor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 the blinking sp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45B5-3CD5-4E60-B7A2-040BE0FD1057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5: Implementing an ALU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wards implementing your very first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your own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rithmetic and Logic Unit (AL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U is an important part of the CP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ithmetic operations: add, subtract, multiply, compare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operations: AND, OR,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EF30-96D7-48B9-BC54-337D2862E34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6: Testing the ALU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imu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our design from Lab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to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bu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our implementation to resolve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A1C2-EA33-46C1-8D71-E1BA70881D12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7: Writing Assembly Co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in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ssembly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a program which you will later use to run on your pro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 mani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C9EC-2A67-4FE4-B3C6-ADE2F17884C0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8: Full System Integr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be covered in two wee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how a processor is bu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your first design of a MIPS pro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 a “snake”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ED07-BF7B-4EA9-A45D-0CA077E4CF2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lowchart: Terminator 5"/>
          <p:cNvSpPr/>
          <p:nvPr/>
        </p:nvSpPr>
        <p:spPr>
          <a:xfrm>
            <a:off x="1562040" y="36576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lowchart: Terminator 15"/>
          <p:cNvSpPr/>
          <p:nvPr/>
        </p:nvSpPr>
        <p:spPr>
          <a:xfrm rot="16200000">
            <a:off x="95220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lowchart: Terminator 16"/>
          <p:cNvSpPr/>
          <p:nvPr/>
        </p:nvSpPr>
        <p:spPr>
          <a:xfrm rot="16200000">
            <a:off x="217152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lowchart: Terminator 17"/>
          <p:cNvSpPr/>
          <p:nvPr/>
        </p:nvSpPr>
        <p:spPr>
          <a:xfrm>
            <a:off x="1563840" y="4591080"/>
            <a:ext cx="99036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owchart: Terminator 18"/>
          <p:cNvSpPr/>
          <p:nvPr/>
        </p:nvSpPr>
        <p:spPr>
          <a:xfrm>
            <a:off x="1562040" y="5715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lowchart: Terminator 19"/>
          <p:cNvSpPr/>
          <p:nvPr/>
        </p:nvSpPr>
        <p:spPr>
          <a:xfrm rot="16200000">
            <a:off x="95220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lowchart: Terminator 20"/>
          <p:cNvSpPr/>
          <p:nvPr/>
        </p:nvSpPr>
        <p:spPr>
          <a:xfrm rot="16200000">
            <a:off x="217152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lowchart: Terminator 21"/>
          <p:cNvSpPr/>
          <p:nvPr/>
        </p:nvSpPr>
        <p:spPr>
          <a:xfrm>
            <a:off x="3220920" y="36576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owchart: Terminator 22"/>
          <p:cNvSpPr/>
          <p:nvPr/>
        </p:nvSpPr>
        <p:spPr>
          <a:xfrm rot="16200000">
            <a:off x="261108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lowchart: Terminator 23"/>
          <p:cNvSpPr/>
          <p:nvPr/>
        </p:nvSpPr>
        <p:spPr>
          <a:xfrm rot="16200000">
            <a:off x="383040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lowchart: Terminator 24"/>
          <p:cNvSpPr/>
          <p:nvPr/>
        </p:nvSpPr>
        <p:spPr>
          <a:xfrm>
            <a:off x="3222720" y="4591080"/>
            <a:ext cx="99036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lowchart: Terminator 25"/>
          <p:cNvSpPr/>
          <p:nvPr/>
        </p:nvSpPr>
        <p:spPr>
          <a:xfrm>
            <a:off x="3220920" y="5715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Terminator 26"/>
          <p:cNvSpPr/>
          <p:nvPr/>
        </p:nvSpPr>
        <p:spPr>
          <a:xfrm rot="16200000">
            <a:off x="261108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lowchart: Terminator 27"/>
          <p:cNvSpPr/>
          <p:nvPr/>
        </p:nvSpPr>
        <p:spPr>
          <a:xfrm rot="16200000">
            <a:off x="383040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lowchart: Terminator 28"/>
          <p:cNvSpPr/>
          <p:nvPr/>
        </p:nvSpPr>
        <p:spPr>
          <a:xfrm>
            <a:off x="4862520" y="36576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lowchart: Terminator 29"/>
          <p:cNvSpPr/>
          <p:nvPr/>
        </p:nvSpPr>
        <p:spPr>
          <a:xfrm rot="16200000">
            <a:off x="425268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lowchart: Terminator 30"/>
          <p:cNvSpPr/>
          <p:nvPr/>
        </p:nvSpPr>
        <p:spPr>
          <a:xfrm rot="16200000">
            <a:off x="5472000" y="4140000"/>
            <a:ext cx="990720" cy="15264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lowchart: Terminator 31"/>
          <p:cNvSpPr/>
          <p:nvPr/>
        </p:nvSpPr>
        <p:spPr>
          <a:xfrm>
            <a:off x="4863960" y="459108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lowchart: Terminator 32"/>
          <p:cNvSpPr/>
          <p:nvPr/>
        </p:nvSpPr>
        <p:spPr>
          <a:xfrm>
            <a:off x="4862520" y="5715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lowchart: Terminator 33"/>
          <p:cNvSpPr/>
          <p:nvPr/>
        </p:nvSpPr>
        <p:spPr>
          <a:xfrm rot="16200000">
            <a:off x="425268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lowchart: Terminator 34"/>
          <p:cNvSpPr/>
          <p:nvPr/>
        </p:nvSpPr>
        <p:spPr>
          <a:xfrm rot="16200000">
            <a:off x="5472000" y="5162400"/>
            <a:ext cx="990720" cy="15264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lowchart: Terminator 35"/>
          <p:cNvSpPr/>
          <p:nvPr/>
        </p:nvSpPr>
        <p:spPr>
          <a:xfrm>
            <a:off x="6521400" y="36576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lowchart: Terminator 36"/>
          <p:cNvSpPr/>
          <p:nvPr/>
        </p:nvSpPr>
        <p:spPr>
          <a:xfrm rot="16200000">
            <a:off x="591156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lowchart: Terminator 37"/>
          <p:cNvSpPr/>
          <p:nvPr/>
        </p:nvSpPr>
        <p:spPr>
          <a:xfrm rot="16200000">
            <a:off x="7130880" y="4140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lowchart: Terminator 38"/>
          <p:cNvSpPr/>
          <p:nvPr/>
        </p:nvSpPr>
        <p:spPr>
          <a:xfrm>
            <a:off x="6523200" y="4591080"/>
            <a:ext cx="99036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lowchart: Terminator 39"/>
          <p:cNvSpPr/>
          <p:nvPr/>
        </p:nvSpPr>
        <p:spPr>
          <a:xfrm>
            <a:off x="6521400" y="57150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lowchart: Terminator 40"/>
          <p:cNvSpPr/>
          <p:nvPr/>
        </p:nvSpPr>
        <p:spPr>
          <a:xfrm rot="16200000">
            <a:off x="591156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lowchart: Terminator 41"/>
          <p:cNvSpPr/>
          <p:nvPr/>
        </p:nvSpPr>
        <p:spPr>
          <a:xfrm rot="16200000">
            <a:off x="7130880" y="5162400"/>
            <a:ext cx="990720" cy="152280"/>
          </a:xfrm>
          <a:prstGeom prst="flowChartTerminator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autoRev="1" fill="remov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78" dur="500" autoRev="1" fill="remov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79" dur="500" autoRev="1" fill="remov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remove" presetClass="emph" presetID="27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81" dur="500" autoRev="1" fill="remov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82" dur="500" autoRev="1" fill="remov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83" dur="500" autoRev="1" fill="remov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remove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85" dur="500" autoRev="1" fill="remov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86" dur="500" autoRev="1" fill="remov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87" dur="500" autoRev="1" fill="remov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remove" presetClass="emph" presetID="27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389" dur="50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90" dur="50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91" dur="50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remove" presetClass="emph" presetID="27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93" dur="500" autoRev="1" fill="remov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94" dur="500" autoRev="1" fill="remov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95" dur="500" autoRev="1" fill="remov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remove" presetClass="emph" presetID="27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397" dur="500" autoRev="1" fill="remov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398" dur="500" autoRev="1" fill="remov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399" dur="500" autoRev="1" fill="remov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remove" presetClass="emph" presetID="27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401" dur="500" autoRev="1" fill="remov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02" dur="500" autoRev="1" fill="remov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03" dur="500" autoRev="1" fill="remov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remove" presetClass="emph" presetID="27">
                                  <p:stCondLst>
                                    <p:cond delay="3500"/>
                                  </p:stCondLst>
                                  <p:childTnLst>
                                    <p:animClr clrSpc="rgb">
                                      <p:cBhvr>
                                        <p:cTn id="405" dur="500" autoRev="1" fill="remov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06" dur="500" autoRev="1" fill="remov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07" dur="500" autoRev="1" fill="remov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remove" presetClass="emph" presetID="27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409" dur="50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10" dur="50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11" dur="50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remove" presetClass="emph" presetID="27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413" dur="500" autoRev="1" fill="remov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14" dur="500" autoRev="1" fill="remov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15" dur="500" autoRev="1" fill="remov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remove" presetClass="emph" presetID="27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417" dur="500" autoRev="1" fill="remov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18" dur="500" autoRev="1" fill="remov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19" dur="500" autoRev="1" fill="remov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remove" presetClass="emph" presetID="27">
                                  <p:stCondLst>
                                    <p:cond delay="5500"/>
                                  </p:stCondLst>
                                  <p:childTnLst>
                                    <p:animClr clrSpc="rgb">
                                      <p:cBhvr>
                                        <p:cTn id="421" dur="500" autoRev="1" fill="remov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422" dur="500" autoRev="1" fill="remov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423" dur="500" autoRev="1" fill="remov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9: The Performance of MIP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</a:rPr>
              <a:t>perform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your process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Lab 8 by adding new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t shif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C9C4-26C2-4B9A-B102-ACF54576770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Basys 3: Our FPGA Board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1" name="Picture 2" descr="https://reference.digilentinc.com/_media/reference/programmable-logic/basys-3/basys-3-2.png"/>
          <p:cNvPicPr/>
          <p:nvPr/>
        </p:nvPicPr>
        <p:blipFill>
          <a:blip r:embed="rId1"/>
          <a:stretch/>
        </p:blipFill>
        <p:spPr>
          <a:xfrm>
            <a:off x="1200240" y="1585800"/>
            <a:ext cx="7011720" cy="443412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9"/>
          <p:cNvGrpSpPr/>
          <p:nvPr/>
        </p:nvGrpSpPr>
        <p:grpSpPr>
          <a:xfrm>
            <a:off x="1746360" y="5199120"/>
            <a:ext cx="7184880" cy="814320"/>
            <a:chOff x="1746360" y="5199120"/>
            <a:chExt cx="7184880" cy="814320"/>
          </a:xfrm>
        </p:grpSpPr>
        <p:pic>
          <p:nvPicPr>
            <p:cNvPr id="223" name="Rectangle 8" descr=""/>
            <p:cNvPicPr/>
            <p:nvPr/>
          </p:nvPicPr>
          <p:blipFill>
            <a:blip r:embed="rId2"/>
            <a:stretch/>
          </p:blipFill>
          <p:spPr>
            <a:xfrm>
              <a:off x="7596360" y="5555880"/>
              <a:ext cx="1334880" cy="4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9"/>
            <p:cNvSpPr/>
            <p:nvPr/>
          </p:nvSpPr>
          <p:spPr>
            <a:xfrm>
              <a:off x="1746360" y="5199120"/>
              <a:ext cx="5920560" cy="682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30"/>
          <p:cNvGrpSpPr/>
          <p:nvPr/>
        </p:nvGrpSpPr>
        <p:grpSpPr>
          <a:xfrm>
            <a:off x="1746360" y="4803840"/>
            <a:ext cx="6708600" cy="396720"/>
            <a:chOff x="1746360" y="4803840"/>
            <a:chExt cx="6708600" cy="396720"/>
          </a:xfrm>
        </p:grpSpPr>
        <p:sp>
          <p:nvSpPr>
            <p:cNvPr id="226" name="Rectangle 10"/>
            <p:cNvSpPr/>
            <p:nvPr/>
          </p:nvSpPr>
          <p:spPr>
            <a:xfrm>
              <a:off x="1746360" y="4897080"/>
              <a:ext cx="5923800" cy="1821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Rectangle 11" descr=""/>
            <p:cNvPicPr/>
            <p:nvPr/>
          </p:nvPicPr>
          <p:blipFill>
            <a:blip r:embed="rId3"/>
            <a:stretch/>
          </p:blipFill>
          <p:spPr>
            <a:xfrm>
              <a:off x="7595640" y="4803840"/>
              <a:ext cx="85932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oup 28"/>
          <p:cNvGrpSpPr/>
          <p:nvPr/>
        </p:nvGrpSpPr>
        <p:grpSpPr>
          <a:xfrm>
            <a:off x="423720" y="4130640"/>
            <a:ext cx="3732480" cy="708120"/>
            <a:chOff x="423720" y="4130640"/>
            <a:chExt cx="3732480" cy="708120"/>
          </a:xfrm>
        </p:grpSpPr>
        <p:pic>
          <p:nvPicPr>
            <p:cNvPr id="229" name="Rectangle 12" descr=""/>
            <p:cNvPicPr/>
            <p:nvPr/>
          </p:nvPicPr>
          <p:blipFill>
            <a:blip r:embed="rId4"/>
            <a:stretch/>
          </p:blipFill>
          <p:spPr>
            <a:xfrm>
              <a:off x="423720" y="4130640"/>
              <a:ext cx="2152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13"/>
            <p:cNvSpPr/>
            <p:nvPr/>
          </p:nvSpPr>
          <p:spPr>
            <a:xfrm>
              <a:off x="2316240" y="4228920"/>
              <a:ext cx="1839960" cy="580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6"/>
          <p:cNvGrpSpPr/>
          <p:nvPr/>
        </p:nvGrpSpPr>
        <p:grpSpPr>
          <a:xfrm>
            <a:off x="620640" y="1301760"/>
            <a:ext cx="2944800" cy="1184400"/>
            <a:chOff x="620640" y="1301760"/>
            <a:chExt cx="2944800" cy="1184400"/>
          </a:xfrm>
        </p:grpSpPr>
        <p:sp>
          <p:nvSpPr>
            <p:cNvPr id="232" name="Rectangle 14"/>
            <p:cNvSpPr/>
            <p:nvPr/>
          </p:nvSpPr>
          <p:spPr>
            <a:xfrm>
              <a:off x="2803320" y="1959840"/>
              <a:ext cx="582120" cy="526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Rectangle 15" descr=""/>
            <p:cNvPicPr/>
            <p:nvPr/>
          </p:nvPicPr>
          <p:blipFill>
            <a:blip r:embed="rId5"/>
            <a:stretch/>
          </p:blipFill>
          <p:spPr>
            <a:xfrm>
              <a:off x="620640" y="1301760"/>
              <a:ext cx="2944800" cy="75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27"/>
          <p:cNvGrpSpPr/>
          <p:nvPr/>
        </p:nvGrpSpPr>
        <p:grpSpPr>
          <a:xfrm>
            <a:off x="733320" y="2095560"/>
            <a:ext cx="1968480" cy="799920"/>
            <a:chOff x="733320" y="2095560"/>
            <a:chExt cx="1968480" cy="799920"/>
          </a:xfrm>
        </p:grpSpPr>
        <p:sp>
          <p:nvSpPr>
            <p:cNvPr id="235" name="Rectangle 16"/>
            <p:cNvSpPr/>
            <p:nvPr/>
          </p:nvSpPr>
          <p:spPr>
            <a:xfrm>
              <a:off x="2285280" y="2095560"/>
              <a:ext cx="416520" cy="799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Rectangle 17" descr=""/>
            <p:cNvPicPr/>
            <p:nvPr/>
          </p:nvPicPr>
          <p:blipFill>
            <a:blip r:embed="rId6"/>
            <a:stretch/>
          </p:blipFill>
          <p:spPr>
            <a:xfrm>
              <a:off x="733320" y="2279880"/>
              <a:ext cx="180684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5"/>
          <p:cNvGrpSpPr/>
          <p:nvPr/>
        </p:nvGrpSpPr>
        <p:grpSpPr>
          <a:xfrm>
            <a:off x="3767040" y="1206360"/>
            <a:ext cx="1860480" cy="1770120"/>
            <a:chOff x="3767040" y="1206360"/>
            <a:chExt cx="1860480" cy="1770120"/>
          </a:xfrm>
        </p:grpSpPr>
        <p:sp>
          <p:nvSpPr>
            <p:cNvPr id="238" name="Rectangle 18"/>
            <p:cNvSpPr/>
            <p:nvPr/>
          </p:nvSpPr>
          <p:spPr>
            <a:xfrm>
              <a:off x="3840120" y="1612800"/>
              <a:ext cx="1726200" cy="13636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Rectangle 19" descr=""/>
            <p:cNvPicPr/>
            <p:nvPr/>
          </p:nvPicPr>
          <p:blipFill>
            <a:blip r:embed="rId7"/>
            <a:stretch/>
          </p:blipFill>
          <p:spPr>
            <a:xfrm>
              <a:off x="3767040" y="1206360"/>
              <a:ext cx="1860480" cy="48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10240"/>
          <p:cNvGrpSpPr/>
          <p:nvPr/>
        </p:nvGrpSpPr>
        <p:grpSpPr>
          <a:xfrm>
            <a:off x="4299120" y="3209760"/>
            <a:ext cx="2178000" cy="916200"/>
            <a:chOff x="4299120" y="3209760"/>
            <a:chExt cx="2178000" cy="916200"/>
          </a:xfrm>
        </p:grpSpPr>
        <p:sp>
          <p:nvSpPr>
            <p:cNvPr id="241" name="Rectangle 20"/>
            <p:cNvSpPr/>
            <p:nvPr/>
          </p:nvSpPr>
          <p:spPr>
            <a:xfrm>
              <a:off x="4299120" y="3321000"/>
              <a:ext cx="810360" cy="8049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Rectangle 21" descr=""/>
            <p:cNvPicPr/>
            <p:nvPr/>
          </p:nvPicPr>
          <p:blipFill>
            <a:blip r:embed="rId8"/>
            <a:stretch/>
          </p:blipFill>
          <p:spPr>
            <a:xfrm>
              <a:off x="4985640" y="3209760"/>
              <a:ext cx="1491480" cy="48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10239"/>
          <p:cNvGrpSpPr/>
          <p:nvPr/>
        </p:nvGrpSpPr>
        <p:grpSpPr>
          <a:xfrm>
            <a:off x="5603760" y="3787920"/>
            <a:ext cx="2932200" cy="1031760"/>
            <a:chOff x="5603760" y="3787920"/>
            <a:chExt cx="2932200" cy="1031760"/>
          </a:xfrm>
        </p:grpSpPr>
        <p:sp>
          <p:nvSpPr>
            <p:cNvPr id="244" name="Rectangle 22"/>
            <p:cNvSpPr/>
            <p:nvPr/>
          </p:nvSpPr>
          <p:spPr>
            <a:xfrm>
              <a:off x="5603760" y="3885840"/>
              <a:ext cx="1358280" cy="933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Rectangle 23" descr=""/>
            <p:cNvPicPr/>
            <p:nvPr/>
          </p:nvPicPr>
          <p:blipFill>
            <a:blip r:embed="rId9"/>
            <a:stretch/>
          </p:blipFill>
          <p:spPr>
            <a:xfrm>
              <a:off x="6913440" y="3787920"/>
              <a:ext cx="1622520" cy="47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4"/>
          <p:cNvGrpSpPr/>
          <p:nvPr/>
        </p:nvGrpSpPr>
        <p:grpSpPr>
          <a:xfrm>
            <a:off x="5827680" y="1604880"/>
            <a:ext cx="909720" cy="1355760"/>
            <a:chOff x="5827680" y="1604880"/>
            <a:chExt cx="909720" cy="1355760"/>
          </a:xfrm>
        </p:grpSpPr>
        <p:sp>
          <p:nvSpPr>
            <p:cNvPr id="247" name="Rectangle 24"/>
            <p:cNvSpPr/>
            <p:nvPr/>
          </p:nvSpPr>
          <p:spPr>
            <a:xfrm>
              <a:off x="5827680" y="1994400"/>
              <a:ext cx="909720" cy="966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Rectangle 25" descr=""/>
            <p:cNvPicPr/>
            <p:nvPr/>
          </p:nvPicPr>
          <p:blipFill>
            <a:blip r:embed="rId10"/>
            <a:stretch/>
          </p:blipFill>
          <p:spPr>
            <a:xfrm>
              <a:off x="5919120" y="1604880"/>
              <a:ext cx="7682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892C-D835-46B1-B76A-8546D3BD732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743040" y="61196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s://reference.digilentinc.com/reference/programmable-logic/basys-3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Lab Sess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91404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G E 19, HG E 26.1, HG E 26.3, HG E 27, HG D 1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uesd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:15-17:00 (E 19, E 26.1, E 26.3, E 2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dnesd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:15-17:00 (E 26.1, E 26.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id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8:15-10:00 (D 12, E 26.3, E 2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id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:15-12:00 (E 26.1, E 26.3, E 2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2279-EADB-475D-A0C4-015D03809841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 is an FPGA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 Programmable Gat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PGA is a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configu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st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figurable </a:t>
            </a:r>
            <a:r>
              <a:rPr b="0" lang="en-US" sz="2200" spc="-1" strike="noStrike">
                <a:solidFill>
                  <a:srgbClr val="c00000"/>
                </a:solidFill>
                <a:latin typeface="Tahoma"/>
              </a:rPr>
              <a:t>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figurable </a:t>
            </a:r>
            <a:r>
              <a:rPr b="0" lang="en-US" sz="2200" spc="-1" strike="noStrike">
                <a:solidFill>
                  <a:srgbClr val="c00000"/>
                </a:solidFill>
                <a:latin typeface="Tahoma"/>
              </a:rPr>
              <a:t>interconn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figurable </a:t>
            </a:r>
            <a:r>
              <a:rPr b="0" lang="en-US" sz="2200" spc="-1" strike="noStrike">
                <a:solidFill>
                  <a:srgbClr val="c00000"/>
                </a:solidFill>
                <a:latin typeface="Tahoma"/>
              </a:rPr>
              <a:t>input/output (IO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PGAs fill the gap between </a:t>
            </a:r>
            <a:r>
              <a:rPr b="0" lang="en-US" sz="2400" spc="-1" strike="noStrike">
                <a:solidFill>
                  <a:srgbClr val="997300"/>
                </a:solidFill>
                <a:latin typeface="Tahoma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997300"/>
                </a:solidFill>
                <a:latin typeface="Tahom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hieves </a:t>
            </a: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higher performanc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n </a:t>
            </a: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soft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s </a:t>
            </a: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o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flexibilit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n </a:t>
            </a: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6987-0A26-4AE6-8473-50E0E2936A48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FPGA Architecture - Looking Inside an FPG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A135-5BAF-4A00-A8A1-AE80B3201381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7600" cy="4875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ain building bloc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Look-Up Tables (LUT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Switch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" name="Group 19"/>
          <p:cNvGrpSpPr/>
          <p:nvPr/>
        </p:nvGrpSpPr>
        <p:grpSpPr>
          <a:xfrm>
            <a:off x="3657600" y="3123720"/>
            <a:ext cx="1295280" cy="2373840"/>
            <a:chOff x="3657600" y="3123720"/>
            <a:chExt cx="1295280" cy="2373840"/>
          </a:xfrm>
        </p:grpSpPr>
        <p:sp>
          <p:nvSpPr>
            <p:cNvPr id="259" name="Straight Connector 4"/>
            <p:cNvSpPr/>
            <p:nvPr/>
          </p:nvSpPr>
          <p:spPr>
            <a:xfrm>
              <a:off x="3985200" y="3527640"/>
              <a:ext cx="27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8"/>
            <p:cNvSpPr/>
            <p:nvPr/>
          </p:nvSpPr>
          <p:spPr>
            <a:xfrm flipV="1">
              <a:off x="4240440" y="3124080"/>
              <a:ext cx="0" cy="39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10"/>
            <p:cNvSpPr/>
            <p:nvPr/>
          </p:nvSpPr>
          <p:spPr>
            <a:xfrm flipH="1">
              <a:off x="4240080" y="3142800"/>
              <a:ext cx="697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13"/>
            <p:cNvSpPr/>
            <p:nvPr/>
          </p:nvSpPr>
          <p:spPr>
            <a:xfrm flipH="1" flipV="1">
              <a:off x="4934160" y="3123720"/>
              <a:ext cx="360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16"/>
            <p:cNvSpPr/>
            <p:nvPr/>
          </p:nvSpPr>
          <p:spPr>
            <a:xfrm flipH="1">
              <a:off x="3657600" y="4632840"/>
              <a:ext cx="1295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Straight Connector 18"/>
            <p:cNvSpPr/>
            <p:nvPr/>
          </p:nvSpPr>
          <p:spPr>
            <a:xfrm flipV="1">
              <a:off x="3684240" y="4632840"/>
              <a:ext cx="0" cy="85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Straight Connector 20"/>
            <p:cNvSpPr/>
            <p:nvPr/>
          </p:nvSpPr>
          <p:spPr>
            <a:xfrm flipH="1">
              <a:off x="3672360" y="5497560"/>
              <a:ext cx="75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21"/>
          <p:cNvSpPr/>
          <p:nvPr/>
        </p:nvSpPr>
        <p:spPr>
          <a:xfrm>
            <a:off x="838080" y="646416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Andre DeHon, “The Density Advantage of Configurable Computing”, </a:t>
            </a:r>
            <a:r>
              <a:rPr b="0" i="1" lang="en-US" sz="1400" spc="-1" strike="noStrike">
                <a:solidFill>
                  <a:srgbClr val="404040"/>
                </a:solidFill>
                <a:latin typeface="Arial"/>
              </a:rPr>
              <a:t>Computer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,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: Rounded Corners 47"/>
          <p:cNvSpPr/>
          <p:nvPr/>
        </p:nvSpPr>
        <p:spPr>
          <a:xfrm>
            <a:off x="3537000" y="5613480"/>
            <a:ext cx="2658960" cy="8110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14280" y="95040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-bit input LUT (3-LU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: Rounded Corners 28"/>
          <p:cNvSpPr/>
          <p:nvPr/>
        </p:nvSpPr>
        <p:spPr>
          <a:xfrm>
            <a:off x="1420920" y="1444680"/>
            <a:ext cx="1527120" cy="4532400"/>
          </a:xfrm>
          <a:custGeom>
            <a:avLst/>
            <a:gdLst>
              <a:gd name="textAreaLeft" fmla="*/ 74520 w 1527120"/>
              <a:gd name="textAreaRight" fmla="*/ 1452600 w 1527120"/>
              <a:gd name="textAreaTop" fmla="*/ 74520 h 4532400"/>
              <a:gd name="textAreaBottom" fmla="*/ 4457880 h 4532400"/>
            </a:gdLst>
            <a:ahLst/>
            <a:rect l="textAreaLeft" t="textAreaTop" r="textAreaRight" b="textAreaBottom"/>
            <a:pathLst>
              <a:path w="21600" h="64097">
                <a:moveTo>
                  <a:pt x="3600" y="0"/>
                </a:moveTo>
                <a:arcTo wR="3600" hR="3600" stAng="16200000" swAng="-5400000"/>
                <a:lnTo>
                  <a:pt x="0" y="60497"/>
                </a:lnTo>
                <a:arcTo wR="3600" hR="3600" stAng="10800000" swAng="-5400000"/>
                <a:lnTo>
                  <a:pt x="18000" y="640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Do We Program LUT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B7FD-6A55-4890-B966-FCF25A541A5A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: Top Corners Snipped 4"/>
          <p:cNvSpPr/>
          <p:nvPr/>
        </p:nvSpPr>
        <p:spPr>
          <a:xfrm rot="5400000">
            <a:off x="1635480" y="3402720"/>
            <a:ext cx="4043520" cy="457200"/>
          </a:xfrm>
          <a:custGeom>
            <a:avLst/>
            <a:gdLst/>
            <a:ahLst/>
            <a:rect l="l" t="t" r="r" b="b"/>
            <a:pathLst>
              <a:path w="4043363" h="457200">
                <a:moveTo>
                  <a:pt x="228600" y="0"/>
                </a:moveTo>
                <a:lnTo>
                  <a:pt x="3814763" y="0"/>
                </a:lnTo>
                <a:lnTo>
                  <a:pt x="4043363" y="228600"/>
                </a:lnTo>
                <a:lnTo>
                  <a:pt x="4043363" y="457200"/>
                </a:lnTo>
                <a:lnTo>
                  <a:pt x="4043363" y="457200"/>
                </a:lnTo>
                <a:lnTo>
                  <a:pt x="0" y="457200"/>
                </a:lnTo>
                <a:lnTo>
                  <a:pt x="0" y="457200"/>
                </a:lnTo>
                <a:lnTo>
                  <a:pt x="0" y="228600"/>
                </a:lnTo>
                <a:lnTo>
                  <a:pt x="228600" y="0"/>
                </a:lnTo>
                <a:close/>
              </a:path>
            </a:pathLst>
          </a:cu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828800" y="160956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828800" y="214308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828800" y="265896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1828800" y="317664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1828800" y="370512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1828800" y="423864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828800" y="475452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1828800" y="527220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7"/>
          <p:cNvSpPr/>
          <p:nvPr/>
        </p:nvSpPr>
        <p:spPr>
          <a:xfrm>
            <a:off x="2514600" y="18003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18"/>
          <p:cNvSpPr/>
          <p:nvPr/>
        </p:nvSpPr>
        <p:spPr>
          <a:xfrm>
            <a:off x="2514600" y="23353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19"/>
          <p:cNvSpPr/>
          <p:nvPr/>
        </p:nvSpPr>
        <p:spPr>
          <a:xfrm>
            <a:off x="2514600" y="28400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20"/>
          <p:cNvSpPr/>
          <p:nvPr/>
        </p:nvSpPr>
        <p:spPr>
          <a:xfrm>
            <a:off x="2514600" y="3375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21"/>
          <p:cNvSpPr/>
          <p:nvPr/>
        </p:nvSpPr>
        <p:spPr>
          <a:xfrm>
            <a:off x="2514600" y="38955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22"/>
          <p:cNvSpPr/>
          <p:nvPr/>
        </p:nvSpPr>
        <p:spPr>
          <a:xfrm>
            <a:off x="2514600" y="4430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23"/>
          <p:cNvSpPr/>
          <p:nvPr/>
        </p:nvSpPr>
        <p:spPr>
          <a:xfrm>
            <a:off x="2514600" y="4935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24"/>
          <p:cNvSpPr/>
          <p:nvPr/>
        </p:nvSpPr>
        <p:spPr>
          <a:xfrm>
            <a:off x="2514600" y="54705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17"/>
          <p:cNvCxnSpPr/>
          <p:nvPr/>
        </p:nvCxnSpPr>
        <p:spPr>
          <a:xfrm flipV="1">
            <a:off x="3657240" y="5652720"/>
            <a:ext cx="1080" cy="558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0" name="Straight Arrow Connector 27"/>
          <p:cNvCxnSpPr/>
          <p:nvPr/>
        </p:nvCxnSpPr>
        <p:spPr>
          <a:xfrm flipH="1">
            <a:off x="3633480" y="6210000"/>
            <a:ext cx="83880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sp>
        <p:nvSpPr>
          <p:cNvPr id="291" name="TextBox 26"/>
          <p:cNvSpPr/>
          <p:nvPr/>
        </p:nvSpPr>
        <p:spPr>
          <a:xfrm>
            <a:off x="4498920" y="600084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(3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30"/>
          <p:cNvSpPr/>
          <p:nvPr/>
        </p:nvSpPr>
        <p:spPr>
          <a:xfrm>
            <a:off x="3886200" y="355284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1"/>
          <p:cNvSpPr/>
          <p:nvPr/>
        </p:nvSpPr>
        <p:spPr>
          <a:xfrm>
            <a:off x="4795920" y="335268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utput (1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23551"/>
          <p:cNvCxnSpPr/>
          <p:nvPr/>
        </p:nvCxnSpPr>
        <p:spPr>
          <a:xfrm flipV="1">
            <a:off x="2842920" y="1455120"/>
            <a:ext cx="2569320" cy="1544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295" name="TextBox 37"/>
          <p:cNvSpPr/>
          <p:nvPr/>
        </p:nvSpPr>
        <p:spPr>
          <a:xfrm>
            <a:off x="5400720" y="1255680"/>
            <a:ext cx="29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Straight Arrow Connector 39"/>
          <p:cNvCxnSpPr/>
          <p:nvPr/>
        </p:nvCxnSpPr>
        <p:spPr>
          <a:xfrm flipV="1">
            <a:off x="3995280" y="4409280"/>
            <a:ext cx="1157760" cy="3452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297" name="TextBox 40"/>
          <p:cNvSpPr/>
          <p:nvPr/>
        </p:nvSpPr>
        <p:spPr>
          <a:xfrm>
            <a:off x="5153040" y="3933720"/>
            <a:ext cx="385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xer (Mux)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s one of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put corresponding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42"/>
          <p:cNvCxnSpPr/>
          <p:nvPr/>
        </p:nvCxnSpPr>
        <p:spPr>
          <a:xfrm flipH="1">
            <a:off x="3866400" y="6106680"/>
            <a:ext cx="259560" cy="21996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sp>
        <p:nvSpPr>
          <p:cNvPr id="299" name="TextBox 44"/>
          <p:cNvSpPr/>
          <p:nvPr/>
        </p:nvSpPr>
        <p:spPr>
          <a:xfrm>
            <a:off x="3898800" y="5781600"/>
            <a:ext cx="18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Straight Arrow Connector 48"/>
          <p:cNvCxnSpPr/>
          <p:nvPr/>
        </p:nvCxnSpPr>
        <p:spPr>
          <a:xfrm flipV="1">
            <a:off x="6168600" y="5652720"/>
            <a:ext cx="723240" cy="27072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301" name="TextBox 49"/>
          <p:cNvSpPr/>
          <p:nvPr/>
        </p:nvSpPr>
        <p:spPr>
          <a:xfrm>
            <a:off x="6878520" y="5425920"/>
            <a:ext cx="29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lect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3562"/>
          <p:cNvSpPr/>
          <p:nvPr/>
        </p:nvSpPr>
        <p:spPr>
          <a:xfrm>
            <a:off x="569880" y="1622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3"/>
          <p:cNvSpPr/>
          <p:nvPr/>
        </p:nvSpPr>
        <p:spPr>
          <a:xfrm>
            <a:off x="581040" y="21337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5"/>
          <p:cNvSpPr/>
          <p:nvPr/>
        </p:nvSpPr>
        <p:spPr>
          <a:xfrm>
            <a:off x="569880" y="26827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6"/>
          <p:cNvSpPr/>
          <p:nvPr/>
        </p:nvSpPr>
        <p:spPr>
          <a:xfrm>
            <a:off x="579600" y="31939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7"/>
          <p:cNvSpPr/>
          <p:nvPr/>
        </p:nvSpPr>
        <p:spPr>
          <a:xfrm>
            <a:off x="569880" y="37018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8"/>
          <p:cNvSpPr/>
          <p:nvPr/>
        </p:nvSpPr>
        <p:spPr>
          <a:xfrm>
            <a:off x="579600" y="4211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557280" y="476244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60"/>
          <p:cNvSpPr/>
          <p:nvPr/>
        </p:nvSpPr>
        <p:spPr>
          <a:xfrm>
            <a:off x="566640" y="5273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3555"/>
          <p:cNvSpPr/>
          <p:nvPr/>
        </p:nvSpPr>
        <p:spPr>
          <a:xfrm>
            <a:off x="1101600" y="3022920"/>
            <a:ext cx="7388280" cy="1068840"/>
          </a:xfrm>
          <a:prstGeom prst="rect">
            <a:avLst/>
          </a:prstGeom>
          <a:solidFill>
            <a:srgbClr val="fff0c2"/>
          </a:solidFill>
          <a:ln w="5724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LUT can implement </a:t>
            </a:r>
            <a:br>
              <a:rPr sz="3200"/>
            </a:br>
            <a:r>
              <a:rPr b="1" lang="en-US" sz="3200" spc="-1" strike="noStrike">
                <a:solidFill>
                  <a:srgbClr val="3b812f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-bit inpu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14280" y="95040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implement a function that outputs ‘1’ when there are more than one ‘1’ in select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: Rounded Corners 28"/>
          <p:cNvSpPr/>
          <p:nvPr/>
        </p:nvSpPr>
        <p:spPr>
          <a:xfrm>
            <a:off x="2030400" y="1825560"/>
            <a:ext cx="1527120" cy="4532400"/>
          </a:xfrm>
          <a:custGeom>
            <a:avLst/>
            <a:gdLst>
              <a:gd name="textAreaLeft" fmla="*/ 74520 w 1527120"/>
              <a:gd name="textAreaRight" fmla="*/ 1452600 w 1527120"/>
              <a:gd name="textAreaTop" fmla="*/ 74520 h 4532400"/>
              <a:gd name="textAreaBottom" fmla="*/ 4457880 h 4532400"/>
            </a:gdLst>
            <a:ahLst/>
            <a:rect l="textAreaLeft" t="textAreaTop" r="textAreaRight" b="textAreaBottom"/>
            <a:pathLst>
              <a:path w="21600" h="64097">
                <a:moveTo>
                  <a:pt x="3600" y="0"/>
                </a:moveTo>
                <a:arcTo wR="3600" hR="3600" stAng="16200000" swAng="-5400000"/>
                <a:lnTo>
                  <a:pt x="0" y="60497"/>
                </a:lnTo>
                <a:arcTo wR="3600" hR="3600" stAng="10800000" swAng="-5400000"/>
                <a:lnTo>
                  <a:pt x="18000" y="640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n Example of Programming a L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49DE-8CE5-4F7A-8850-1C49B87D0A88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: Top Corners Snipped 4"/>
          <p:cNvSpPr/>
          <p:nvPr/>
        </p:nvSpPr>
        <p:spPr>
          <a:xfrm rot="5400000">
            <a:off x="2245320" y="3783600"/>
            <a:ext cx="4043160" cy="457200"/>
          </a:xfrm>
          <a:custGeom>
            <a:avLst/>
            <a:gdLst/>
            <a:ahLst/>
            <a:rect l="l" t="t" r="r" b="b"/>
            <a:pathLst>
              <a:path w="4043363" h="457200">
                <a:moveTo>
                  <a:pt x="228600" y="0"/>
                </a:moveTo>
                <a:lnTo>
                  <a:pt x="3814763" y="0"/>
                </a:lnTo>
                <a:lnTo>
                  <a:pt x="4043363" y="228600"/>
                </a:lnTo>
                <a:lnTo>
                  <a:pt x="4043363" y="457200"/>
                </a:lnTo>
                <a:lnTo>
                  <a:pt x="4043363" y="457200"/>
                </a:lnTo>
                <a:lnTo>
                  <a:pt x="0" y="457200"/>
                </a:lnTo>
                <a:lnTo>
                  <a:pt x="0" y="457200"/>
                </a:lnTo>
                <a:lnTo>
                  <a:pt x="0" y="228600"/>
                </a:lnTo>
                <a:lnTo>
                  <a:pt x="228600" y="0"/>
                </a:lnTo>
                <a:close/>
              </a:path>
            </a:pathLst>
          </a:cu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2438280" y="199080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2438280" y="252396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438280" y="304020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2438280" y="355752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438280" y="408636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438280" y="461952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2438280" y="5135400"/>
            <a:ext cx="685800" cy="38124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2438280" y="5653080"/>
            <a:ext cx="685800" cy="380880"/>
          </a:xfrm>
          <a:prstGeom prst="rect">
            <a:avLst/>
          </a:prstGeom>
          <a:solidFill>
            <a:srgbClr val="fff0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7"/>
          <p:cNvSpPr/>
          <p:nvPr/>
        </p:nvSpPr>
        <p:spPr>
          <a:xfrm>
            <a:off x="3124080" y="21812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8"/>
          <p:cNvSpPr/>
          <p:nvPr/>
        </p:nvSpPr>
        <p:spPr>
          <a:xfrm>
            <a:off x="3124080" y="2716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9"/>
          <p:cNvSpPr/>
          <p:nvPr/>
        </p:nvSpPr>
        <p:spPr>
          <a:xfrm>
            <a:off x="3124080" y="32209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20"/>
          <p:cNvSpPr/>
          <p:nvPr/>
        </p:nvSpPr>
        <p:spPr>
          <a:xfrm>
            <a:off x="3124080" y="3755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1"/>
          <p:cNvSpPr/>
          <p:nvPr/>
        </p:nvSpPr>
        <p:spPr>
          <a:xfrm>
            <a:off x="3124080" y="4276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22"/>
          <p:cNvSpPr/>
          <p:nvPr/>
        </p:nvSpPr>
        <p:spPr>
          <a:xfrm>
            <a:off x="3124080" y="48117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23"/>
          <p:cNvSpPr/>
          <p:nvPr/>
        </p:nvSpPr>
        <p:spPr>
          <a:xfrm>
            <a:off x="3124080" y="5316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24"/>
          <p:cNvSpPr/>
          <p:nvPr/>
        </p:nvSpPr>
        <p:spPr>
          <a:xfrm>
            <a:off x="3124080" y="5851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17"/>
          <p:cNvCxnSpPr/>
          <p:nvPr/>
        </p:nvCxnSpPr>
        <p:spPr>
          <a:xfrm flipV="1">
            <a:off x="4266720" y="6033600"/>
            <a:ext cx="1080" cy="558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33" name="Straight Arrow Connector 27"/>
          <p:cNvCxnSpPr/>
          <p:nvPr/>
        </p:nvCxnSpPr>
        <p:spPr>
          <a:xfrm flipH="1">
            <a:off x="4242600" y="6590880"/>
            <a:ext cx="83916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sp>
        <p:nvSpPr>
          <p:cNvPr id="334" name="TextBox 26"/>
          <p:cNvSpPr/>
          <p:nvPr/>
        </p:nvSpPr>
        <p:spPr>
          <a:xfrm>
            <a:off x="5108400" y="6381720"/>
            <a:ext cx="18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(3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30"/>
          <p:cNvSpPr/>
          <p:nvPr/>
        </p:nvSpPr>
        <p:spPr>
          <a:xfrm>
            <a:off x="4495680" y="39337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1"/>
          <p:cNvSpPr/>
          <p:nvPr/>
        </p:nvSpPr>
        <p:spPr>
          <a:xfrm>
            <a:off x="5405400" y="373392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utput (1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traight Arrow Connector 23551"/>
          <p:cNvCxnSpPr/>
          <p:nvPr/>
        </p:nvCxnSpPr>
        <p:spPr>
          <a:xfrm flipV="1">
            <a:off x="3452400" y="1836360"/>
            <a:ext cx="2569320" cy="15480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338" name="TextBox 37"/>
          <p:cNvSpPr/>
          <p:nvPr/>
        </p:nvSpPr>
        <p:spPr>
          <a:xfrm>
            <a:off x="6010200" y="1636560"/>
            <a:ext cx="29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42"/>
          <p:cNvCxnSpPr/>
          <p:nvPr/>
        </p:nvCxnSpPr>
        <p:spPr>
          <a:xfrm flipH="1">
            <a:off x="4475880" y="6488280"/>
            <a:ext cx="259560" cy="21960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sp>
        <p:nvSpPr>
          <p:cNvPr id="340" name="TextBox 44"/>
          <p:cNvSpPr/>
          <p:nvPr/>
        </p:nvSpPr>
        <p:spPr>
          <a:xfrm>
            <a:off x="4508640" y="616284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8"/>
          <p:cNvSpPr/>
          <p:nvPr/>
        </p:nvSpPr>
        <p:spPr>
          <a:xfrm>
            <a:off x="1179360" y="20034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41"/>
          <p:cNvSpPr/>
          <p:nvPr/>
        </p:nvSpPr>
        <p:spPr>
          <a:xfrm>
            <a:off x="1190520" y="25146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1179360" y="30639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5"/>
          <p:cNvSpPr/>
          <p:nvPr/>
        </p:nvSpPr>
        <p:spPr>
          <a:xfrm>
            <a:off x="1189080" y="35751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6"/>
          <p:cNvSpPr/>
          <p:nvPr/>
        </p:nvSpPr>
        <p:spPr>
          <a:xfrm>
            <a:off x="1179360" y="40831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0"/>
          <p:cNvSpPr/>
          <p:nvPr/>
        </p:nvSpPr>
        <p:spPr>
          <a:xfrm>
            <a:off x="1189080" y="45925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1"/>
          <p:cNvSpPr/>
          <p:nvPr/>
        </p:nvSpPr>
        <p:spPr>
          <a:xfrm>
            <a:off x="1166760" y="51436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2"/>
          <p:cNvSpPr/>
          <p:nvPr/>
        </p:nvSpPr>
        <p:spPr>
          <a:xfrm>
            <a:off x="1176480" y="56545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rrow: Down 2"/>
          <p:cNvSpPr/>
          <p:nvPr/>
        </p:nvSpPr>
        <p:spPr>
          <a:xfrm>
            <a:off x="6553080" y="2035080"/>
            <a:ext cx="304920" cy="4003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3"/>
          <p:cNvSpPr/>
          <p:nvPr/>
        </p:nvSpPr>
        <p:spPr>
          <a:xfrm>
            <a:off x="5303880" y="2395440"/>
            <a:ext cx="29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7300"/>
                </a:solidFill>
                <a:latin typeface="Arial"/>
              </a:rPr>
              <a:t>Configuratio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2451240" y="194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4"/>
          <p:cNvSpPr/>
          <p:nvPr/>
        </p:nvSpPr>
        <p:spPr>
          <a:xfrm>
            <a:off x="2435400" y="247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5"/>
          <p:cNvSpPr/>
          <p:nvPr/>
        </p:nvSpPr>
        <p:spPr>
          <a:xfrm>
            <a:off x="2425680" y="299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6"/>
          <p:cNvSpPr/>
          <p:nvPr/>
        </p:nvSpPr>
        <p:spPr>
          <a:xfrm>
            <a:off x="2425680" y="3510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7"/>
          <p:cNvSpPr/>
          <p:nvPr/>
        </p:nvSpPr>
        <p:spPr>
          <a:xfrm>
            <a:off x="2435400" y="4059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8"/>
          <p:cNvSpPr/>
          <p:nvPr/>
        </p:nvSpPr>
        <p:spPr>
          <a:xfrm>
            <a:off x="2425680" y="459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9"/>
          <p:cNvSpPr/>
          <p:nvPr/>
        </p:nvSpPr>
        <p:spPr>
          <a:xfrm>
            <a:off x="2414520" y="5100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0"/>
          <p:cNvSpPr/>
          <p:nvPr/>
        </p:nvSpPr>
        <p:spPr>
          <a:xfrm>
            <a:off x="2414520" y="561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How to Implement Complex Functions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E3A2-2153-4893-80E4-991DD3A39A79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838080" y="646416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Andre DeHon, “The Density Advantage of Configurable Computing”, </a:t>
            </a:r>
            <a:r>
              <a:rPr b="0" i="1" lang="en-US" sz="1400" spc="-1" strike="noStrike">
                <a:solidFill>
                  <a:srgbClr val="404040"/>
                </a:solidFill>
                <a:latin typeface="Arial"/>
              </a:rPr>
              <a:t>Computer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,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28600" y="996840"/>
            <a:ext cx="861048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PGAs are composed of </a:t>
            </a:r>
            <a:r>
              <a:rPr b="0" lang="en-US" sz="2400" spc="-1" strike="noStrike">
                <a:solidFill>
                  <a:srgbClr val="3b812f"/>
                </a:solidFill>
                <a:latin typeface="Tahoma"/>
              </a:rPr>
              <a:t>a large numb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LU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3" name="Group 22528"/>
          <p:cNvGrpSpPr/>
          <p:nvPr/>
        </p:nvGrpSpPr>
        <p:grpSpPr>
          <a:xfrm>
            <a:off x="4118040" y="1870200"/>
            <a:ext cx="4498920" cy="4585680"/>
            <a:chOff x="4118040" y="1870200"/>
            <a:chExt cx="4498920" cy="4585680"/>
          </a:xfrm>
        </p:grpSpPr>
        <p:grpSp>
          <p:nvGrpSpPr>
            <p:cNvPr id="364" name="Group 23"/>
            <p:cNvGrpSpPr/>
            <p:nvPr/>
          </p:nvGrpSpPr>
          <p:grpSpPr>
            <a:xfrm>
              <a:off x="4267080" y="1945440"/>
              <a:ext cx="4345920" cy="4346280"/>
              <a:chOff x="4267080" y="1945440"/>
              <a:chExt cx="4345920" cy="4346280"/>
            </a:xfrm>
          </p:grpSpPr>
          <p:sp>
            <p:nvSpPr>
              <p:cNvPr id="365" name="Rectangle 26"/>
              <p:cNvSpPr/>
              <p:nvPr/>
            </p:nvSpPr>
            <p:spPr>
              <a:xfrm>
                <a:off x="4809960" y="1945440"/>
                <a:ext cx="3803040" cy="38034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27"/>
              <p:cNvSpPr/>
              <p:nvPr/>
            </p:nvSpPr>
            <p:spPr>
              <a:xfrm>
                <a:off x="4267080" y="1945440"/>
                <a:ext cx="542880" cy="3803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28"/>
              <p:cNvSpPr/>
              <p:nvPr/>
            </p:nvSpPr>
            <p:spPr>
              <a:xfrm rot="5400000">
                <a:off x="6440040" y="4118760"/>
                <a:ext cx="542880" cy="38030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Rectangle 11"/>
            <p:cNvSpPr/>
            <p:nvPr/>
          </p:nvSpPr>
          <p:spPr>
            <a:xfrm>
              <a:off x="4118040" y="1870200"/>
              <a:ext cx="685800" cy="403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9"/>
            <p:cNvSpPr/>
            <p:nvPr/>
          </p:nvSpPr>
          <p:spPr>
            <a:xfrm rot="16200000">
              <a:off x="6255720" y="4094640"/>
              <a:ext cx="685800" cy="40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9" descr=""/>
          <p:cNvPicPr/>
          <p:nvPr/>
        </p:nvPicPr>
        <p:blipFill>
          <a:blip r:embed="rId4"/>
          <a:stretch/>
        </p:blipFill>
        <p:spPr>
          <a:xfrm>
            <a:off x="2022480" y="1646280"/>
            <a:ext cx="4530600" cy="447984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22527"/>
          <p:cNvGrpSpPr/>
          <p:nvPr/>
        </p:nvGrpSpPr>
        <p:grpSpPr>
          <a:xfrm>
            <a:off x="2743200" y="2766960"/>
            <a:ext cx="2289240" cy="2185560"/>
            <a:chOff x="2743200" y="2766960"/>
            <a:chExt cx="2289240" cy="2185560"/>
          </a:xfrm>
        </p:grpSpPr>
        <p:sp>
          <p:nvSpPr>
            <p:cNvPr id="372" name="Straight Connector 14"/>
            <p:cNvSpPr/>
            <p:nvPr/>
          </p:nvSpPr>
          <p:spPr>
            <a:xfrm>
              <a:off x="2743200" y="2766960"/>
              <a:ext cx="2289240" cy="15447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30"/>
            <p:cNvSpPr/>
            <p:nvPr/>
          </p:nvSpPr>
          <p:spPr>
            <a:xfrm flipV="1">
              <a:off x="2743200" y="4311360"/>
              <a:ext cx="2289240" cy="641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Box 22531"/>
          <p:cNvSpPr/>
          <p:nvPr/>
        </p:nvSpPr>
        <p:spPr>
          <a:xfrm>
            <a:off x="5630760" y="1455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PGA 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3333E-006 L -0.29166 -0.01366 E">
                                      <p:cBhvr>
                                        <p:cTn id="726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28" dur="1500" fill="hold"/>
                                        <p:tgtEl>
                                          <p:spTgt spid="37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dern FPGA Archit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6-L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ousands of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rder of MB distribute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n-chip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-code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pecial purpose hardware bloc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high-performanc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mory interf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latency and high bandwidth off-chip I/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a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mbedded within the FPGA c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107A-A2A9-4A28-92FB-0961E9DD0577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Xilinx Zynq Ultrascale+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69D4-EAF9-407D-A1E7-ED31693C35A0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www.xilinx.com/content/dam/xilinx/imgs/products/zynq/zynq-cg-block.PNG"/>
          <p:cNvPicPr/>
          <p:nvPr/>
        </p:nvPicPr>
        <p:blipFill>
          <a:blip r:embed="rId1"/>
          <a:stretch/>
        </p:blipFill>
        <p:spPr>
          <a:xfrm>
            <a:off x="1698480" y="995400"/>
            <a:ext cx="5669280" cy="48672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990720" y="600084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www.xilinx.com/products/silicon-devices/soc/zynq-ultrascale-mpsoc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dvantages &amp; Disadvantages of FPGA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12f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development co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ort time to mark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figurable in the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us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lgorithm can be implemented directly in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SA, high spec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ow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ffic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pplication specific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figurability adds significan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rea overh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E267-4F7F-439C-96F1-B4B768780E48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mputer-Aided Design (CAD) Too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600" y="113040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PGAs have many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.g., LUTs, switch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program manu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resent a </a:t>
            </a: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high-level functional descripti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our hardware circuit using the FPGA resour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he resources to </a:t>
            </a: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ur circuit t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optimally configure the interconne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ween the selected resour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 a final </a:t>
            </a:r>
            <a:r>
              <a:rPr b="0" lang="en-US" sz="2200" spc="-1" strike="noStrike">
                <a:solidFill>
                  <a:srgbClr val="997300"/>
                </a:solidFill>
                <a:latin typeface="Tahoma"/>
              </a:rPr>
              <a:t>configuration 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properly configure an FPG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CD7D-6B8E-4B43-A87C-D284A29D83C4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PGA Design Flo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1745-B80F-4FF8-8860-383F4E169FC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: Rounded Corners 3"/>
          <p:cNvSpPr/>
          <p:nvPr/>
        </p:nvSpPr>
        <p:spPr>
          <a:xfrm>
            <a:off x="1143000" y="12193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rrow: Down 4"/>
          <p:cNvSpPr/>
          <p:nvPr/>
        </p:nvSpPr>
        <p:spPr>
          <a:xfrm>
            <a:off x="2438280" y="16765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: Rounded Corners 7"/>
          <p:cNvSpPr/>
          <p:nvPr/>
        </p:nvSpPr>
        <p:spPr>
          <a:xfrm>
            <a:off x="1143000" y="2136600"/>
            <a:ext cx="2971800" cy="68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Description Language (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434340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erilog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, 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9"/>
          <p:cNvSpPr/>
          <p:nvPr/>
        </p:nvSpPr>
        <p:spPr>
          <a:xfrm>
            <a:off x="3181320" y="1676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Your tas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rrow: Down 10"/>
          <p:cNvSpPr/>
          <p:nvPr/>
        </p:nvSpPr>
        <p:spPr>
          <a:xfrm>
            <a:off x="2438280" y="28954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: Rounded Corners 11"/>
          <p:cNvSpPr/>
          <p:nvPr/>
        </p:nvSpPr>
        <p:spPr>
          <a:xfrm>
            <a:off x="1143000" y="34290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row: Down 12"/>
          <p:cNvSpPr/>
          <p:nvPr/>
        </p:nvSpPr>
        <p:spPr>
          <a:xfrm>
            <a:off x="2438280" y="39625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: Rounded Corners 13"/>
          <p:cNvSpPr/>
          <p:nvPr/>
        </p:nvSpPr>
        <p:spPr>
          <a:xfrm>
            <a:off x="1143000" y="44956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cement and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rrow: Down 14"/>
          <p:cNvSpPr/>
          <p:nvPr/>
        </p:nvSpPr>
        <p:spPr>
          <a:xfrm>
            <a:off x="2438280" y="50292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: Rounded Corners 15"/>
          <p:cNvSpPr/>
          <p:nvPr/>
        </p:nvSpPr>
        <p:spPr>
          <a:xfrm>
            <a:off x="1143000" y="55627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tream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rrow: Down 16"/>
          <p:cNvSpPr/>
          <p:nvPr/>
        </p:nvSpPr>
        <p:spPr>
          <a:xfrm rot="16200000">
            <a:off x="4324320" y="55627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: Rounded Corners 17"/>
          <p:cNvSpPr/>
          <p:nvPr/>
        </p:nvSpPr>
        <p:spPr>
          <a:xfrm>
            <a:off x="4915080" y="55627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ing the FP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8"/>
          <p:cNvSpPr/>
          <p:nvPr/>
        </p:nvSpPr>
        <p:spPr>
          <a:xfrm>
            <a:off x="5519880" y="3924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ilinx V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19"/>
          <p:cNvCxnSpPr/>
          <p:nvPr/>
        </p:nvCxnSpPr>
        <p:spPr>
          <a:xfrm>
            <a:off x="3421080" y="3238560"/>
            <a:ext cx="1913760" cy="83880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405" name="Straight Arrow Connector 21"/>
          <p:cNvCxnSpPr/>
          <p:nvPr/>
        </p:nvCxnSpPr>
        <p:spPr>
          <a:xfrm>
            <a:off x="3344760" y="4098600"/>
            <a:ext cx="1990080" cy="896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406" name="Straight Arrow Connector 23"/>
          <p:cNvCxnSpPr/>
          <p:nvPr/>
        </p:nvCxnSpPr>
        <p:spPr>
          <a:xfrm flipV="1">
            <a:off x="3344760" y="4276440"/>
            <a:ext cx="1990080" cy="93240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407" name="Straight Arrow Connector 28"/>
          <p:cNvCxnSpPr/>
          <p:nvPr/>
        </p:nvCxnSpPr>
        <p:spPr>
          <a:xfrm flipV="1">
            <a:off x="4514760" y="4362120"/>
            <a:ext cx="953280" cy="113400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triangle" w="med"/>
          </a:ln>
        </p:spPr>
      </p:cxn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Gr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91404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bs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ints in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put the </a:t>
            </a:r>
            <a:r>
              <a:rPr b="0" lang="en-US" sz="2400" spc="-1" strike="noStrike">
                <a:solidFill>
                  <a:srgbClr val="35742a"/>
                </a:solidFill>
                <a:latin typeface="Tahoma"/>
              </a:rPr>
              <a:t>lab manual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s://safari.ethz.ch/digitaltechnik/doku.php?id=lab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742a"/>
                </a:solidFill>
                <a:latin typeface="Tahoma"/>
              </a:rPr>
              <a:t>Grad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class evaluation (70%)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ndato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ab reports (3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use your grades for labs from past years. However, your grade will be scaled to 70%. You must submit lab reports to get the rest 30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find your grades in last year’s Moodle page: https://moodle-app2.let.ethz.ch/course/view.php?id=435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should finish the labs within 1 week after they are announc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 ques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odle Q&amp;A (preferred) https://moodle-app2.let.ethz.ch/mod/forum/view.php?id=33463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technik@lists.inf.ethz.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3D94-C877-424F-BC5C-27E0F6E5F298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Vivado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-like software that helps us throughout the FPGA design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tools to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imu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ur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idate the correctness of the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bugg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drivers and graphical interface to easily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FPGA using a USB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b812f"/>
                </a:solidFill>
                <a:latin typeface="Tahoma"/>
              </a:rPr>
              <a:t>Installed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in computer rooms in HG (E 19, E 26.1, E 26.3, E 2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E8B9-0C35-4ED2-94F8-DAF9F3810A2E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utorial and Demo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see how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Vivado to write Verilo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llow the FPGA design flow ste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wnload the bitstream into the FPG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NG Game de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for a simple hardware that you can easily develop by the end of seme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921C-BA6E-490F-B7F0-88D5F31FD7BC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1676520" y="44197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github.com/CynicalApe/BASYS3-P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 We Have Covered Toda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0880" y="106020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Will lea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of the Lab Exerc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PGA Development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18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PGA Microarchitectu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an FP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torial and Dem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FC89-5E5F-403C-BD6E-E572A0E48AA7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20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5742a"/>
                </a:solidFill>
                <a:latin typeface="Cambria"/>
              </a:rPr>
              <a:t>Design of Digital Circuits</a:t>
            </a:r>
            <a:br>
              <a:rPr sz="6600"/>
            </a:br>
            <a:r>
              <a:rPr b="1" lang="en-US" sz="4400" spc="-1" strike="noStrike">
                <a:solidFill>
                  <a:srgbClr val="35742a"/>
                </a:solidFill>
                <a:latin typeface="Garamond"/>
              </a:rPr>
              <a:t>Lecture 3: </a:t>
            </a: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the Labs and FPGA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47640" y="3424320"/>
            <a:ext cx="784872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ecture by Hasan Hass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 Zur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28 February 20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D93-3AAD-4CB9-9619-55B8ABA79E4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06020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ahoma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We Will lea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of the Lab Exerc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PGA Development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18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PGA Microarchitectu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an FP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torial and Dem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403B-1393-4F51-AB36-0CCB8392DDC0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 We Will Learn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4837-FF8C-4FBA-808E-621F284F444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490560" y="3597120"/>
            <a:ext cx="21664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ro-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3552840" y="3225960"/>
            <a:ext cx="2041560" cy="36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/HW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3549600" y="2560680"/>
            <a:ext cx="20430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/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3549600" y="2189160"/>
            <a:ext cx="20430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549600" y="1822320"/>
            <a:ext cx="2043000" cy="366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552840" y="3970440"/>
            <a:ext cx="2039760" cy="372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Log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552840" y="4341960"/>
            <a:ext cx="204156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3552840" y="2903400"/>
            <a:ext cx="2041560" cy="327240"/>
          </a:xfrm>
          <a:prstGeom prst="rect">
            <a:avLst/>
          </a:prstGeom>
          <a:solidFill>
            <a:srgbClr val="3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3554280" y="4697280"/>
            <a:ext cx="2043360" cy="366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562040" y="1219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ransformation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24"/>
          <p:cNvSpPr/>
          <p:nvPr/>
        </p:nvSpPr>
        <p:spPr>
          <a:xfrm rot="5400000">
            <a:off x="3962520" y="2646000"/>
            <a:ext cx="1218960" cy="228600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40502">
                <a:moveTo>
                  <a:pt x="3600" y="0"/>
                </a:moveTo>
                <a:arcTo wR="3600" hR="3600" stAng="16200000" swAng="-5400000"/>
                <a:lnTo>
                  <a:pt x="0" y="36902"/>
                </a:lnTo>
                <a:arcTo wR="3600" hR="3600" stAng="10800000" swAng="-5400000"/>
                <a:lnTo>
                  <a:pt x="18000" y="40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eft Brace 15"/>
          <p:cNvSpPr/>
          <p:nvPr/>
        </p:nvSpPr>
        <p:spPr>
          <a:xfrm>
            <a:off x="2600280" y="3139920"/>
            <a:ext cx="685800" cy="13971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1397160"/>
              <a:gd name="textAreaBottom" fmla="*/ 1379520 h 139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4"/>
                </a:cubicBezTo>
                <a:lnTo>
                  <a:pt x="10800" y="9916"/>
                </a:lnTo>
                <a:cubicBezTo>
                  <a:pt x="10800" y="10358"/>
                  <a:pt x="5400" y="10800"/>
                  <a:pt x="0" y="10800"/>
                </a:cubicBezTo>
                <a:cubicBezTo>
                  <a:pt x="5400" y="10800"/>
                  <a:pt x="10800" y="11242"/>
                  <a:pt x="10800" y="11684"/>
                </a:cubicBezTo>
                <a:lnTo>
                  <a:pt x="10800" y="20716"/>
                </a:lnTo>
                <a:cubicBezTo>
                  <a:pt x="10800" y="2115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219240" y="3325680"/>
            <a:ext cx="268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7300"/>
                </a:solidFill>
                <a:latin typeface="Arial"/>
              </a:rPr>
              <a:t>Touch upon implementatio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20"/>
          <p:cNvSpPr/>
          <p:nvPr/>
        </p:nvSpPr>
        <p:spPr>
          <a:xfrm rot="10800000">
            <a:off x="5700240" y="3121200"/>
            <a:ext cx="685800" cy="139824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1398240"/>
              <a:gd name="textAreaBottom" fmla="*/ 1380600 h 139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3"/>
                </a:cubicBezTo>
                <a:lnTo>
                  <a:pt x="10800" y="9917"/>
                </a:lnTo>
                <a:cubicBezTo>
                  <a:pt x="10800" y="10359"/>
                  <a:pt x="5400" y="10800"/>
                  <a:pt x="0" y="10800"/>
                </a:cubicBezTo>
                <a:cubicBezTo>
                  <a:pt x="5400" y="10800"/>
                  <a:pt x="10800" y="11242"/>
                  <a:pt x="10800" y="11683"/>
                </a:cubicBezTo>
                <a:lnTo>
                  <a:pt x="10800" y="20717"/>
                </a:lnTo>
                <a:cubicBezTo>
                  <a:pt x="10800" y="2115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6353280" y="3313080"/>
            <a:ext cx="268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7300"/>
                </a:solidFill>
                <a:latin typeface="Arial"/>
              </a:rPr>
              <a:t>Hands-on experience in digital circuit design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"/>
          <p:cNvSpPr/>
          <p:nvPr/>
        </p:nvSpPr>
        <p:spPr>
          <a:xfrm>
            <a:off x="876240" y="51022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Understanding how a processor works underneath the softwar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 We Will Learn? (2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4507-2AE0-48D0-92FE-8067882ECCA9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996480"/>
            <a:ext cx="83818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rade-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erform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rea/complex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your hardwar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7300"/>
                </a:solidFill>
                <a:latin typeface="Tahoma"/>
              </a:rPr>
              <a:t>Hands-on experi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rototy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FPG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bugg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Your Hardware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Description Language (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HD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Design 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r-Aided Design (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CA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o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06020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ahoma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ahoma"/>
              </a:rPr>
              <a:t>What We Will lea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verview of the Lab Exerc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PGA Development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18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PGA Microarchitectu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an FP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torial and Dem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B3C8-F3C4-4FBF-91B8-4CB44DF7578B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Basys 3: Our FPGA Board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2" descr="https://reference.digilentinc.com/_media/reference/programmable-logic/basys-3/basys-3-2.png"/>
          <p:cNvPicPr/>
          <p:nvPr/>
        </p:nvPicPr>
        <p:blipFill>
          <a:blip r:embed="rId1"/>
          <a:stretch/>
        </p:blipFill>
        <p:spPr>
          <a:xfrm>
            <a:off x="1200240" y="1585800"/>
            <a:ext cx="7011720" cy="44341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9"/>
          <p:cNvGrpSpPr/>
          <p:nvPr/>
        </p:nvGrpSpPr>
        <p:grpSpPr>
          <a:xfrm>
            <a:off x="1746360" y="5199120"/>
            <a:ext cx="7184880" cy="814320"/>
            <a:chOff x="1746360" y="5199120"/>
            <a:chExt cx="7184880" cy="814320"/>
          </a:xfrm>
        </p:grpSpPr>
        <p:pic>
          <p:nvPicPr>
            <p:cNvPr id="132" name="Rectangle 8" descr=""/>
            <p:cNvPicPr/>
            <p:nvPr/>
          </p:nvPicPr>
          <p:blipFill>
            <a:blip r:embed="rId2"/>
            <a:stretch/>
          </p:blipFill>
          <p:spPr>
            <a:xfrm>
              <a:off x="7596360" y="5555880"/>
              <a:ext cx="1334880" cy="4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9"/>
            <p:cNvSpPr/>
            <p:nvPr/>
          </p:nvSpPr>
          <p:spPr>
            <a:xfrm>
              <a:off x="1746360" y="5199120"/>
              <a:ext cx="5920560" cy="682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0"/>
          <p:cNvGrpSpPr/>
          <p:nvPr/>
        </p:nvGrpSpPr>
        <p:grpSpPr>
          <a:xfrm>
            <a:off x="1746360" y="4803840"/>
            <a:ext cx="6708600" cy="396720"/>
            <a:chOff x="1746360" y="4803840"/>
            <a:chExt cx="6708600" cy="396720"/>
          </a:xfrm>
        </p:grpSpPr>
        <p:sp>
          <p:nvSpPr>
            <p:cNvPr id="135" name="Rectangle 10"/>
            <p:cNvSpPr/>
            <p:nvPr/>
          </p:nvSpPr>
          <p:spPr>
            <a:xfrm>
              <a:off x="1746360" y="4897080"/>
              <a:ext cx="5923800" cy="1821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Rectangle 11" descr=""/>
            <p:cNvPicPr/>
            <p:nvPr/>
          </p:nvPicPr>
          <p:blipFill>
            <a:blip r:embed="rId3"/>
            <a:stretch/>
          </p:blipFill>
          <p:spPr>
            <a:xfrm>
              <a:off x="7595640" y="4803840"/>
              <a:ext cx="85932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28"/>
          <p:cNvGrpSpPr/>
          <p:nvPr/>
        </p:nvGrpSpPr>
        <p:grpSpPr>
          <a:xfrm>
            <a:off x="423720" y="4130640"/>
            <a:ext cx="3732480" cy="708120"/>
            <a:chOff x="423720" y="4130640"/>
            <a:chExt cx="3732480" cy="708120"/>
          </a:xfrm>
        </p:grpSpPr>
        <p:pic>
          <p:nvPicPr>
            <p:cNvPr id="138" name="Rectangle 12" descr=""/>
            <p:cNvPicPr/>
            <p:nvPr/>
          </p:nvPicPr>
          <p:blipFill>
            <a:blip r:embed="rId4"/>
            <a:stretch/>
          </p:blipFill>
          <p:spPr>
            <a:xfrm>
              <a:off x="423720" y="4130640"/>
              <a:ext cx="2152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3"/>
            <p:cNvSpPr/>
            <p:nvPr/>
          </p:nvSpPr>
          <p:spPr>
            <a:xfrm>
              <a:off x="2316240" y="4228920"/>
              <a:ext cx="1839960" cy="580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6"/>
          <p:cNvGrpSpPr/>
          <p:nvPr/>
        </p:nvGrpSpPr>
        <p:grpSpPr>
          <a:xfrm>
            <a:off x="620640" y="1301760"/>
            <a:ext cx="2944800" cy="1184400"/>
            <a:chOff x="620640" y="1301760"/>
            <a:chExt cx="2944800" cy="1184400"/>
          </a:xfrm>
        </p:grpSpPr>
        <p:sp>
          <p:nvSpPr>
            <p:cNvPr id="141" name="Rectangle 14"/>
            <p:cNvSpPr/>
            <p:nvPr/>
          </p:nvSpPr>
          <p:spPr>
            <a:xfrm>
              <a:off x="2803320" y="1959840"/>
              <a:ext cx="582120" cy="526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Rectangle 15" descr=""/>
            <p:cNvPicPr/>
            <p:nvPr/>
          </p:nvPicPr>
          <p:blipFill>
            <a:blip r:embed="rId5"/>
            <a:stretch/>
          </p:blipFill>
          <p:spPr>
            <a:xfrm>
              <a:off x="620640" y="1301760"/>
              <a:ext cx="2944800" cy="75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27"/>
          <p:cNvGrpSpPr/>
          <p:nvPr/>
        </p:nvGrpSpPr>
        <p:grpSpPr>
          <a:xfrm>
            <a:off x="733320" y="2095560"/>
            <a:ext cx="1968480" cy="799920"/>
            <a:chOff x="733320" y="2095560"/>
            <a:chExt cx="1968480" cy="799920"/>
          </a:xfrm>
        </p:grpSpPr>
        <p:sp>
          <p:nvSpPr>
            <p:cNvPr id="144" name="Rectangle 16"/>
            <p:cNvSpPr/>
            <p:nvPr/>
          </p:nvSpPr>
          <p:spPr>
            <a:xfrm>
              <a:off x="2285280" y="2095560"/>
              <a:ext cx="416520" cy="799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Rectangle 17" descr=""/>
            <p:cNvPicPr/>
            <p:nvPr/>
          </p:nvPicPr>
          <p:blipFill>
            <a:blip r:embed="rId6"/>
            <a:stretch/>
          </p:blipFill>
          <p:spPr>
            <a:xfrm>
              <a:off x="733320" y="2279880"/>
              <a:ext cx="180684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5"/>
          <p:cNvGrpSpPr/>
          <p:nvPr/>
        </p:nvGrpSpPr>
        <p:grpSpPr>
          <a:xfrm>
            <a:off x="3767040" y="1206360"/>
            <a:ext cx="1860480" cy="1770120"/>
            <a:chOff x="3767040" y="1206360"/>
            <a:chExt cx="1860480" cy="1770120"/>
          </a:xfrm>
        </p:grpSpPr>
        <p:sp>
          <p:nvSpPr>
            <p:cNvPr id="147" name="Rectangle 18"/>
            <p:cNvSpPr/>
            <p:nvPr/>
          </p:nvSpPr>
          <p:spPr>
            <a:xfrm>
              <a:off x="3840120" y="1612800"/>
              <a:ext cx="1726200" cy="13636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Rectangle 19" descr=""/>
            <p:cNvPicPr/>
            <p:nvPr/>
          </p:nvPicPr>
          <p:blipFill>
            <a:blip r:embed="rId7"/>
            <a:stretch/>
          </p:blipFill>
          <p:spPr>
            <a:xfrm>
              <a:off x="3767040" y="1206360"/>
              <a:ext cx="1860480" cy="48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10240"/>
          <p:cNvGrpSpPr/>
          <p:nvPr/>
        </p:nvGrpSpPr>
        <p:grpSpPr>
          <a:xfrm>
            <a:off x="4299120" y="3209760"/>
            <a:ext cx="2178000" cy="916200"/>
            <a:chOff x="4299120" y="3209760"/>
            <a:chExt cx="2178000" cy="916200"/>
          </a:xfrm>
        </p:grpSpPr>
        <p:sp>
          <p:nvSpPr>
            <p:cNvPr id="150" name="Rectangle 20"/>
            <p:cNvSpPr/>
            <p:nvPr/>
          </p:nvSpPr>
          <p:spPr>
            <a:xfrm>
              <a:off x="4299120" y="3321000"/>
              <a:ext cx="810360" cy="8049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Rectangle 21" descr=""/>
            <p:cNvPicPr/>
            <p:nvPr/>
          </p:nvPicPr>
          <p:blipFill>
            <a:blip r:embed="rId8"/>
            <a:stretch/>
          </p:blipFill>
          <p:spPr>
            <a:xfrm>
              <a:off x="4985640" y="3209760"/>
              <a:ext cx="1491480" cy="48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10239"/>
          <p:cNvGrpSpPr/>
          <p:nvPr/>
        </p:nvGrpSpPr>
        <p:grpSpPr>
          <a:xfrm>
            <a:off x="5603760" y="3787920"/>
            <a:ext cx="2932200" cy="1031760"/>
            <a:chOff x="5603760" y="3787920"/>
            <a:chExt cx="2932200" cy="1031760"/>
          </a:xfrm>
        </p:grpSpPr>
        <p:sp>
          <p:nvSpPr>
            <p:cNvPr id="153" name="Rectangle 22"/>
            <p:cNvSpPr/>
            <p:nvPr/>
          </p:nvSpPr>
          <p:spPr>
            <a:xfrm>
              <a:off x="5603760" y="3885840"/>
              <a:ext cx="1358280" cy="933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Rectangle 23" descr=""/>
            <p:cNvPicPr/>
            <p:nvPr/>
          </p:nvPicPr>
          <p:blipFill>
            <a:blip r:embed="rId9"/>
            <a:stretch/>
          </p:blipFill>
          <p:spPr>
            <a:xfrm>
              <a:off x="6913440" y="3787920"/>
              <a:ext cx="1622520" cy="47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"/>
          <p:cNvGrpSpPr/>
          <p:nvPr/>
        </p:nvGrpSpPr>
        <p:grpSpPr>
          <a:xfrm>
            <a:off x="5827680" y="1604880"/>
            <a:ext cx="909720" cy="1355760"/>
            <a:chOff x="5827680" y="1604880"/>
            <a:chExt cx="909720" cy="1355760"/>
          </a:xfrm>
        </p:grpSpPr>
        <p:sp>
          <p:nvSpPr>
            <p:cNvPr id="156" name="Rectangle 24"/>
            <p:cNvSpPr/>
            <p:nvPr/>
          </p:nvSpPr>
          <p:spPr>
            <a:xfrm>
              <a:off x="5827680" y="1994400"/>
              <a:ext cx="909720" cy="966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Rectangle 25" descr=""/>
            <p:cNvPicPr/>
            <p:nvPr/>
          </p:nvPicPr>
          <p:blipFill>
            <a:blip r:embed="rId10"/>
            <a:stretch/>
          </p:blipFill>
          <p:spPr>
            <a:xfrm>
              <a:off x="5919120" y="1604880"/>
              <a:ext cx="7682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lide Number Placeholder 1024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73A0-CBB0-49F3-97EE-87E4103CC66D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743040" y="61196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s://reference.digilentinc.com/reference/programmable-logic/basys-3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igh Level Labs Summa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93680" y="1142640"/>
            <a:ext cx="89424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end of the exercises, we will have built a 32-bit microprocessor running on the FPGA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will be a small processor, but it will be able to execute pretty much any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week we will have a new exer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all exercises will require the FPGA 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encouraged to experiment with the board on your 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ay have some extra boards for those who are interes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742a"/>
                </a:solidFill>
                <a:latin typeface="Tahoma"/>
              </a:rPr>
              <a:t>It is not possible </a:t>
            </a:r>
            <a:br>
              <a:rPr sz="2800"/>
            </a:br>
            <a:r>
              <a:rPr b="0" lang="en-US" sz="2800" spc="-1" strike="noStrike">
                <a:solidFill>
                  <a:srgbClr val="35742a"/>
                </a:solidFill>
                <a:latin typeface="Tahoma"/>
              </a:rPr>
              <a:t>to destroy the board </a:t>
            </a:r>
            <a:r>
              <a:rPr b="1" lang="en-US" sz="2800" spc="-1" strike="noStrike">
                <a:solidFill>
                  <a:srgbClr val="35742a"/>
                </a:solidFill>
                <a:latin typeface="Tahoma"/>
              </a:rPr>
              <a:t>by programm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8313-8E2F-4149-8085-BE397E0BF6A7}" type="slidenum">
              <a:rPr b="0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Hasan Hassan</cp:lastModifiedBy>
  <cp:lastPrinted>2017-04-06T09:43:29Z</cp:lastPrinted>
  <dcterms:modified xsi:type="dcterms:W3CDTF">2019-02-27T15:26:31Z</dcterms:modified>
  <cp:revision>644</cp:revision>
  <dc:subject/>
  <dc:title>18-741  Advanced Computer Architecture Lecture 1: Intro and Basics</dc:title>
</cp:coreProperties>
</file>